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5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A78D-CEF8-49E2-9210-3F47D44F46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140D-E74C-46BB-A06F-E275FE205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8C5-18FF-4A4A-911A-900FEDAB8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4FF-2B25-45B7-A11D-B498F85E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617-6935-440A-905B-FB27704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30B48-A2D2-4856-97CD-CD552112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4C981-FD3D-46B8-8332-637C74CE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B773-43E0-4BCB-A3AB-C53BCE8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6CD6-B392-4234-8361-CFF42B6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6E74D-E3A5-41B6-9D7D-648C9CF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8ED08-B647-476B-8A02-9550ECFD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F3B34-3790-4303-B3A1-74452B36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BBBE8-FE7D-44AD-849D-D3BC386D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52EB4-3F04-4C9A-866F-F120B97D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86B5F-8404-4316-9CBA-5948AEC1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FD5-7947-46E6-8BE3-E31D659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1E83A-C2A5-4746-8BCA-B6F8EBDD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1A9D9-B257-4457-8EC7-C18485B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D7094-1AEF-48DC-836D-A939BB9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1CD51-937F-4AA0-8FC0-9976C83B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82DE2-43D3-4306-AAD4-25AEB67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A93B4-642E-41A5-96DE-5A31BCA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183D0-1707-4532-BAF2-0FDECFF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4F590-23FB-42B5-B48F-CF88F71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2CA18-7130-4A99-BA60-684D5A3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82F9A-DE79-49E3-9776-A8623534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CC2-ACE2-4668-AA7E-D13D6ECD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FE897-A0C4-4E10-A372-56640E17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C2641-BA67-43BF-834B-88238073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70C2E-F096-4CCD-8FCB-3ACAF2A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7706-6DEB-410A-BFA7-DFC30A24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E8528-7017-47AC-941B-D6D7700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E3AFE-7E25-4696-8861-1D7558C2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93A87-AE58-4992-8B3B-B4A9985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B20E9-5469-474E-A678-7E02322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5CE7B-DD78-4DC7-89C3-09CB037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E032-33DC-4D1E-A94E-C253703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F9B1-7622-4047-BB75-190171DC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B1858-1367-4A38-A46A-0EE208C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87905-0DB3-479F-B672-845BEBC7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B3F1-6354-4F17-AF1F-52AA8214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B3136-BC3E-4684-86CD-1C22EC6E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F90F8-F6AA-40C0-976F-A93520AB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A15FB-A81C-443E-9C84-63E95C4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3ECC7-E7F7-4A57-A377-3C89E709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21CA1-AA80-472C-A7E5-049C5E8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97272-AC3C-4C96-90BA-B5E42092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4124C-A890-4953-9E30-81B3878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1120-75C3-49B3-A8A9-6D3B365C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19AD3-5CBF-4CC0-82A0-913893D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F967A-9ABF-41CE-A58D-B6B29B14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69BEF-FB36-4C46-8EA0-F10068DB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3115E-05E1-447A-B484-7BC3E82D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CCF17-32CD-4676-8133-A307D3F5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279DD-D765-4C02-9367-8B22E6DC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80224-C475-4AEF-9986-A60392CD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5CF30-C283-4DB7-96A5-63117BA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3EBA2-A02C-4163-9469-2C4A72D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03C96-4356-4C8A-800E-A726AAE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050B-1D90-44A3-9E94-5440DCF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7D2AC-A8B3-4E59-909E-1396B414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31EE1-2F42-4BE8-BF09-D986594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E803D-4C2B-459D-ABCA-178D7BC5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56B9D-53FD-418F-BDAA-0779B12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B278F-45E3-4A0F-B466-055BBF34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65BEA-C313-4855-8769-2C9F930F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B6D1E-9A06-41AF-A5BD-A288A37A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0E7CB-2AFE-484C-9ECE-19D48B7F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3FAD3-7E51-464E-8621-540D130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AEB73-40DD-4A5E-BB36-DBC26F3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E13-1F3A-43E2-B02B-A06E21E9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33627F-A2FE-4448-8FDF-7130236B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C3926-E292-469F-A368-F76624BD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8B9C5-68B7-4110-AB16-A66FBD5E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2E6CE-3816-4C0D-9ADD-20E36B0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FB3C2-6C22-4A1B-AF6C-83ADC92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AA1DC-2CF7-474F-8336-8883073E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7D7C3-68AC-43D8-BCB5-07198714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D53F7-A902-4011-9D62-5E6D3131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11D43-1539-479C-B820-459C8F1B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15968-EBFC-4111-869E-A8DE0695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9332-39D3-4703-9030-CF5D9FD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2DC7C-CD6C-421E-8C09-F37AC84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76ACE-DAA6-45C4-93A0-904B4B4A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4AF92-F752-4CAD-9EA9-FDFA0E21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520DE-CD9D-4021-B6B1-684750FA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B1A47-074F-4466-9C90-7C2DBE2A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171A9-3B2C-41D6-85F6-3B411CA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45EC2-1BFF-4FAE-9B5B-281E109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E2667-7089-472A-A7A9-0E0C350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7BCAE-2246-4BA3-89A8-99CB628A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37A8A-1AD3-4147-B843-687DB9C7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B58A-204C-43C9-9562-4CB474E7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158A4-4E7A-430E-B98B-124CC827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C8C18-06C5-4B8A-B3BA-88A55F6F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6A69D-1632-4075-B39C-3449F9C2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7243D-E4AA-47C2-80DA-8F5C5F5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31488-A5DF-44DD-BB8E-D80AC175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81B47-A7D9-4C97-906F-763CF9F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38CA7-B503-45A3-BAD8-F561645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0228A-EB28-4E7C-89C6-5D9814C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C60D2-9A00-4EC2-A24F-567BD9F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BEFF0-2C6C-4011-BB79-584C175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F76-F49A-4431-9CDD-6E9F361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9C2C0-1502-49F4-8859-B84C258B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BB6C8-DF60-46A0-B704-10364169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4EC99-4E08-48DE-AAC8-36D1B983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93A4A-178C-4EB8-89BC-48142FBD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8392B-DE78-4C04-A600-682414AA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7CCBD-0917-4926-8B43-E59B844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7FDA6-F8E5-488A-A5E5-3503BBC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FE10D-683E-4738-995C-692C2F1C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1AB92-8E25-4A8B-9A38-26204B7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45FAE-6F1C-4681-ADCB-FC62CD8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AD6-55B0-46DA-93DC-F1A0E939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850E-B671-41CC-803E-A5E6CEB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028A0-CC91-46F0-A31E-A4053B8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86998-56AF-4F68-8642-C00D548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7CD69-28D3-4C82-B0B8-5EF2F81E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580DE-F34D-44A8-ABBC-96A1E420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31EB7-C592-4F6B-89F0-51856C82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B37CC-7804-4CA0-BF8C-D9A45C29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8AA17-4128-4C92-A9C4-D271D6D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EE3D7-B67D-43A8-9E12-5D5E08D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3BB5B-0A14-4625-9EC0-F966B28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D4977-FD6D-4B41-988F-967B92F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86E-80DF-460C-98CD-6A30788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5EC28-EB56-46B3-A92A-FE327B8F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88678-4CB9-4BD8-8D31-7C354E4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144B7-D502-4BC2-8651-23B31A3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48A59-02DA-4B2A-AB3B-7C78AAE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1BA4B-6BC7-4FC2-A2F1-58AAB953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D05A3-23EC-47D0-ABFA-FE88BC02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E8FBF-C3B3-459F-8D92-D877C7E8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F05C-3DA8-416A-AD2C-6815FBF5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475-1CFD-4943-B3F3-AEA4E27C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E974-1C8A-43AD-90E4-DB9501BA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3DA6-C589-4718-9AFD-63DD0E6E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5E88-1FF9-478F-BAAF-10AF1055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61C2-A1F0-4E51-B3BF-9AEE8DB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AA01-6962-4C50-8A1C-0729449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3666-3F09-4032-8A42-B4901CC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19B-7266-4FCE-B232-827AB29B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58FC-F906-4963-88E9-6B8EDEC4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6724-6EE8-4453-953D-C73C1AE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2F46-3D5E-43FB-9A2E-42F8D6A4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8FA9-B6A2-4DBB-BC7A-3158A09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A376-388E-4F2E-B9D5-F278518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57B4-5C01-4D3B-9C59-500F771A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E3E8-71F4-45C6-B4D2-40E6CA29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999B-4A5C-4B96-8B9F-D274615A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55D8-1071-45CA-8798-A58AB9EB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6564-A059-42A5-A670-6344C8F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E6A-9B3B-48EC-A423-434B038B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EE3F-5795-4261-9A47-99832E1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B86D-A164-444B-8369-D3A3E0F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709F-4D58-48F7-91DE-11FF8CD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D071-0D2B-40A0-B466-4431A30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5BD3-FCCB-42C9-8FDE-5816F28F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D6D2-B8A4-423C-91B7-1565EBB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A32A-F4C4-4238-A812-613474C2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4F44-4A6C-4FCF-914B-1EEF4DF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0304-C7CA-40AF-9022-4A1FDA94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CB9DE-684F-49C6-973A-85A0D153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E10-9ECA-45B7-ACE3-E4EE1A9D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7AEF-5807-4BCD-9B64-F724B164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5558-0D6F-4D15-A9C7-70F1C62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3E58-849E-46E7-9A72-CA5AF161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3D2B4-6FE7-4E38-B4B9-48F56663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96D4-29AC-4B63-89A1-2C2B8F49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C5E3-D19C-4761-8CB2-D8BFACB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E41C0-4C62-462C-BDFC-61477268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326C3-DFE9-4FD0-BC01-84B41A41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BCC8D-7E96-48F0-95F0-2ABCA05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F948-2DB9-4CDB-84FF-0015432A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A09-C095-48A3-871F-CC1FBD74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2C58-91BF-4795-BE51-42058A76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4D486-F9BC-4D25-9597-27E7C2D8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D31A-43E1-4656-A88D-C9FC2F14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7CC9-4536-4C87-ADFC-9C95D76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F96B-9DA9-4F66-8A7D-B048737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7D79-ABBD-4736-A3A7-E4F34ED9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77A5A-8DAB-4D84-AA5B-D0F2C7E1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CF7A-3BCC-45FB-82C4-E12665DF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1BF5B-F26E-4697-A42D-2AAEB58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3CE61-3236-42B5-9D2F-707E49F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B73-27A0-4B60-B3D7-9D1DD0C5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5EFC3-7064-469A-A677-B86D5164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2E10-3F82-4722-AC94-326CAD04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1CF4-EC93-4A84-86AB-1815849B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B0EE0-EF5B-46EB-B9E3-EFA914B1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312F6-71C5-420A-9969-2D223B26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ABF9F-258A-4F86-8E44-79796978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4FF0C-740A-4B98-8086-AA34D8C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276D-FF31-4740-8FEE-D7D5E87D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6547-9FE2-44F8-AD62-D0C1CF9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E1C4-F4E9-48DC-AA9B-A0E6E69B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3A0-A752-4305-8063-F96DADF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DC62E-80A8-4A1C-A344-6FDBA84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5311-A9C2-4F54-A59A-F49FF6F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E341F-C177-4DF4-8A6C-28FEAC75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CE5F-CF18-4BB5-B7FE-9924EF46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7DF6-93A7-4F34-B5E8-4E1D8809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7E87-F344-4993-88D7-EF573FDB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DCBA-658A-4D70-84FB-C2A2EFBE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B978-7127-448F-BCB3-17C42C1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E2A4-8EC2-4C72-B16E-CF123DBF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282D0-80D7-4213-A00E-C82F61CD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BFC-79C7-4AA2-A6AB-9F994B9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15DD7-6792-4399-93F8-24B281B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CBD0E-E332-414D-B6E6-4115C11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E164-1C27-4F83-B996-356BA35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AA23-EEF4-4217-9571-4643CD9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2647D-BE42-483A-BB7F-141AE92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BFAB-E87D-4747-8990-40C1BE56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D3055-4D47-4259-97CD-6F793CBE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D1085-CEE9-41E9-A341-E4C701A5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5573B-4EA3-43F0-9439-6941326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4CBBF-5DA5-49A5-87C1-DD8FB170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FFD4-058D-4936-A384-F752A702D95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1A58-6D45-4033-97E4-1BE3AE7E7A3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12A-D7E4-40D8-9008-565B4A36471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7F3-B7AA-4F2E-989D-9BBDC02DEBD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553-231A-4840-831A-239028CA25C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C49-559E-496F-BBFC-FACD0214856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2E0-EF65-4B71-8BA3-D658599B86E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D0E-4298-40B3-A825-27536A70CB7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ED87-2426-48FD-8ADE-EB98EBE94BA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5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772-17D2-4401-B33F-3378D983F57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elestia-R1---OverlayTitleSD.png"/>
          <p:cNvPicPr/>
          <p:nvPr/>
        </p:nvPicPr>
        <p:blipFill>
          <a:blip r:embed="rId3"/>
          <a:stretch/>
        </p:blipFill>
        <p:spPr>
          <a:xfrm>
            <a:off x="0" y="0"/>
            <a:ext cx="739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514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742840" y="5870520"/>
            <a:ext cx="39322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406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98AC-04FF-42BE-8973-F764731583B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B97-9A4F-406E-B3E8-6C6A88A7027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A7F-E962-4CCB-816E-A46BAAD3C9F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61D-9365-4963-AC6C-0278240E367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158-9468-487F-8CD3-3E9C7CD985A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AD59-2FE5-4D15-980C-9912142F7B7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574F-F24D-44E1-B0FD-23A0EDB05E9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35D-7561-40C4-A302-54727085A9B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3" descr=""/>
          <p:cNvPicPr/>
          <p:nvPr/>
        </p:nvPicPr>
        <p:blipFill>
          <a:blip r:embed="rId1"/>
          <a:stretch/>
        </p:blipFill>
        <p:spPr>
          <a:xfrm>
            <a:off x="1268280" y="1255680"/>
            <a:ext cx="835668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108000" y="800280"/>
          <a:ext cx="8928000" cy="5835600"/>
        </p:xfrm>
        <a:graphic>
          <a:graphicData uri="http://schemas.openxmlformats.org/drawingml/2006/table">
            <a:tbl>
              <a:tblPr/>
              <a:tblGrid>
                <a:gridCol w="7827840"/>
                <a:gridCol w="1100160"/>
              </a:tblGrid>
              <a:tr h="658800"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я по поправка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измен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36036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НАЯ ЧАСТЬ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ДОХОДОВ ДО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 76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0172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скорректировать доходную часть бюджета на сумму доходов от оказания платных услуг казенными учреждениями, поступающими в доход бюджета (47,7 тыс.руб. -услуги по ГТО за январь-март из бюджета УР; 30 тыс.руб. -доходы от реализации овощей)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06992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в части безвозмездных поступлений из бюджета УР (дотации, субвенции, субсидии, иные МБТ) на сумму  увеличения  объема межбюджетных трансфертов, прогнозируемых к поступлению в бюджет района в 2018 году из бюджета УР в соответствии с нормативно-правовыми документами Удмуртской Республики о предоставлении указанных средств, (за период с 1 января по 31 марта 2018 год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3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5716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района в части безвозмездных поступлений из бюджетов муниципальных образований сельских поселений в соответствии с заключенными Соглашениями о передаче исполнения части полномочий по решению вопросов местного значения (поступили МБТ из бюджета МО "Большекибьинское"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4476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в части прочих безвозмездных поступлений  в связи с фактическим поступлением в бюджет района финансовых средств в 2018 году от  физических и юридических лиц, имеющих целевое назначение (спонсорские средств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46656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мма поправ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 5 4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1452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ДОХОДОВ ПОСЛЕ ВНЕСЕНИЯ ПОПРАВ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 23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  <p:grpSp>
        <p:nvGrpSpPr>
          <p:cNvPr id="768" name="Прямоугольник 4"/>
          <p:cNvGrpSpPr/>
          <p:nvPr/>
        </p:nvGrpSpPr>
        <p:grpSpPr>
          <a:xfrm>
            <a:off x="7832880" y="506520"/>
            <a:ext cx="1218960" cy="322200"/>
            <a:chOff x="7832880" y="506520"/>
            <a:chExt cx="1218960" cy="322200"/>
          </a:xfrm>
        </p:grpSpPr>
        <p:pic>
          <p:nvPicPr>
            <p:cNvPr id="76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32880" y="506520"/>
              <a:ext cx="1218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7846920" y="523800"/>
              <a:ext cx="1189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Rectangle 2"/>
          <p:cNvSpPr/>
          <p:nvPr/>
        </p:nvSpPr>
        <p:spPr>
          <a:xfrm>
            <a:off x="538200" y="-33480"/>
            <a:ext cx="8067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Предложения по поправкам к бюджету 2018 го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2232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016840"/>
                <a:gridCol w="1127160"/>
              </a:tblGrid>
              <a:tr h="39996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НАЯ ЧАСТЬ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РАСХОДОВ ДО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2 76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4944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объем бюджетных ассигнований  муниципального дорожного фонда  в 2018 году на  положительную разницу  между фактически поступившим и прогнозировавшимся объемом доходов  от уплаты акцизов в 2017 го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0652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ассигнования дорожного фонда на сумму  неиспользованного остатка ассигнований дорожного фонда по состоянию  на 01.01.2018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4908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ассигнования дорожного фонда на сумму  возврата в бюджет района в 2018 году неиспользованных  на 01.01.2018 года остатков  межбюджетных трансфертов, предоставленных поселениям на дорожную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6544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ся учесть в  объеме бюджетных ассигнований, расходы бюджета, осуществляемые за счет  безвозмездных поступлений, имеющих целевое назначение, полученных сверх объемов, утвержденных решением о бюджете и направленных на расходы в ходе исполнения бюджета без внесения изменений в решение о бюджете в соответствии с п.3 статьи 217 БК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91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29528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расходы Управления образования по осуществлению тестирования ГТО в  сумме 63,6 тыс. руб. доходов, из них за счет доходов от оказания платных услуг казенными учреждениями, поступившими в 2018 году в доход бюджета 47,7 тыс. руб. и за счет целевых остатков на счете бюджета по состоянию на 01.01.2018 года в сумме 15,9 тыс. руб.; расходы на питание в сумме 30 тыс.руб., осуществляемое казенным учреждение за счет доходов от приносящей доход деятельности зачисляемой в бюдж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29528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расходы бюджета за счет уменьшения остатков (собственные) на счете бюджета по состоянию на 1 января 2018 года и направить их на  расходы по возмещению коммунальных услуг специалистам села в сфере образования и культуры в сумме 1 600 тыс.рублей, на расходы по доплатам к пенсиям муниципальных служащих в сумме 140 тыс.рублей (индексация с 01.01.2018) и на увеличение расходов по оплате труда в связи с увеличением МРОТ и индексацией  заработной платы с 01.01.2018 года в сумме 1 600 тыс.рубл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4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37620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мма поправ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 9 479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35892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РАСХОДОВ ПОСЛЕ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2 245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"/>
          <p:cNvGraphicFramePr/>
          <p:nvPr/>
        </p:nvGraphicFramePr>
        <p:xfrm>
          <a:off x="0" y="907920"/>
          <a:ext cx="9144000" cy="3816360"/>
        </p:xfrm>
        <a:graphic>
          <a:graphicData uri="http://schemas.openxmlformats.org/drawingml/2006/table">
            <a:tbl>
              <a:tblPr/>
              <a:tblGrid>
                <a:gridCol w="8016840"/>
                <a:gridCol w="1127160"/>
              </a:tblGrid>
              <a:tr h="125424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ФИНАНСИРОВАНИЯ ДЕФИЦИТА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АНС ("-" ДЕФИЦИТ; "+" ПРОФИЦИ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 0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7284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ение остатков на счете бюджета (собственные остатки на счете бюджета по состоянию на 01.01.201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26684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ение остатков на счете бюджета (целевые остатки на счете бюджета по состоянию на 01.01.201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179280" y="1125360"/>
          <a:ext cx="8785440" cy="4707000"/>
        </p:xfrm>
        <a:graphic>
          <a:graphicData uri="http://schemas.openxmlformats.org/drawingml/2006/table">
            <a:tbl>
              <a:tblPr/>
              <a:tblGrid>
                <a:gridCol w="5091120"/>
                <a:gridCol w="3694320"/>
              </a:tblGrid>
              <a:tr h="1579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МУНИЦИПАЛЬНОГО ОБРАЗОВАНИЯ «МОЖГИНСКИЙ РАЙОН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</a:tr>
              <a:tr h="65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 235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за счет за счет поступления безвозмездных поступл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 42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027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 245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79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(-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 010,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  <p:sp>
        <p:nvSpPr>
          <p:cNvPr id="775" name="Rectangle 2"/>
          <p:cNvSpPr/>
          <p:nvPr/>
        </p:nvSpPr>
        <p:spPr>
          <a:xfrm>
            <a:off x="565200" y="144360"/>
            <a:ext cx="80661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Уточненные параметры бюджета на 2018 го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Прямоугольник 7"/>
          <p:cNvGrpSpPr/>
          <p:nvPr/>
        </p:nvGrpSpPr>
        <p:grpSpPr>
          <a:xfrm>
            <a:off x="7759800" y="841320"/>
            <a:ext cx="1218960" cy="322200"/>
            <a:chOff x="7759800" y="841320"/>
            <a:chExt cx="1218960" cy="322200"/>
          </a:xfrm>
        </p:grpSpPr>
        <p:pic>
          <p:nvPicPr>
            <p:cNvPr id="777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7759800" y="841320"/>
              <a:ext cx="1218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7775640" y="855720"/>
              <a:ext cx="11890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6:47:21Z</dcterms:created>
  <dc:creator>User</dc:creator>
  <dc:description/>
  <dc:language>en-US</dc:language>
  <cp:lastModifiedBy>Жвакина</cp:lastModifiedBy>
  <cp:lastPrinted>2016-11-11T10:35:51Z</cp:lastPrinted>
  <dcterms:modified xsi:type="dcterms:W3CDTF">2018-03-26T09:35:43Z</dcterms:modified>
  <cp:revision>668</cp:revision>
  <dc:subject/>
  <dc:title>Слайд 1</dc:title>
</cp:coreProperties>
</file>